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D27-6176-4550-B870-AB407CF9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D48-A960-4C5D-9852-FE1CD4A9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17D-3EF4-4A69-84DD-EB7CFEFA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04A-16CF-48E0-9900-567C179E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902-10C8-4C50-95F1-B5666AF1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FB0-85F4-4D89-BC48-9D473E5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7BC-AA13-47AE-BB9D-6B84B5C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165-6058-4AD6-8ED1-B6275EAD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869-1478-4666-899E-B6FC7CC2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1DC-B075-4053-BFD0-F74C25D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B8B-6CFF-43E2-AFF4-21C3CE5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333-D0B4-4245-9E63-A8F481B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384F-0114-4DC4-BEC2-235B2F747E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mericanrhetoric.com/speeches/fdrpearlharbor.ht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washingtonpost.com/news/worldviews/wp/2015/11/17/what-americans-thought-of-jewish-refugees-on-the-eve-of-world-war-ii/?utm_term=.59d65c2fc274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s://www.youtube.com/watch?v=dKEisxsn4y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merican Response to the Looming Threat of a Second World Wa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0381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 START CLASS TODA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aused WW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the US get involved in WW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notable / memorable things about WWI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ar Continues … America Changes Policy:</a:t>
            </a:r>
            <a:br>
              <a:rPr sz="3600"/>
            </a:br>
            <a:r>
              <a:rPr b="1" i="1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Non-Neutral Indirect Invol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ler’s success continues – Germany was well prepared for war- FDR-&gt;Atlantic Charter 8/41 (Churchill/F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tler turns his attention to Britain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tle of Brit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unning out of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h and Carry cannot conti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DR passe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nd Lease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S gets British bases throughout world- benefits w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end Lease Agreement – US becomes the Arsenal of Democra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d Lease allowed the US t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“lend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ar goods to Britain in exchange for Britai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“leasing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me strategic naval bases to the 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ee how FDR was able to convince the American peop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R’s rhetoric gained support for thi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DR compared Lend Lease to loaning your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neighbor your garden ho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ut out a fire at his/her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nk back to what you know about the fireside chat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said this was a bad policy because it was more like loaning gum to somebody, you would not want it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ccffff"/>
                </a:solidFill>
                <a:uFillTx/>
                <a:latin typeface="Arial"/>
              </a:rPr>
              <a:t>Protecting the Arsenal of Democracy</a:t>
            </a:r>
            <a:endParaRPr b="0" lang="en-US" sz="29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DR said the US was defending the Four Democratic Freed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of speech and ex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of wo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from w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dom from fe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something was Lend Lease – it kept the US out of the w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the military reference though – “arse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the four freedoms"/>
          <p:cNvPicPr/>
          <p:nvPr/>
        </p:nvPicPr>
        <p:blipFill>
          <a:blip r:embed="rId1"/>
          <a:srcRect l="2431" t="1179" r="3196" b="1179"/>
          <a:stretch/>
        </p:blipFill>
        <p:spPr>
          <a:xfrm>
            <a:off x="4268880" y="0"/>
            <a:ext cx="48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ffff"/>
                </a:solidFill>
                <a:uFillTx/>
                <a:latin typeface="Arial"/>
              </a:rPr>
              <a:t>Lend Lease </a:t>
            </a:r>
            <a:br>
              <a:rPr sz="3000"/>
            </a:br>
            <a:r>
              <a:rPr b="1" lang="en-US" sz="3000" spc="-1" strike="noStrike" u="sng">
                <a:solidFill>
                  <a:srgbClr val="ccffff"/>
                </a:solidFill>
                <a:uFillTx/>
                <a:latin typeface="Arial"/>
              </a:rPr>
              <a:t>in Actuality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nd Lease assists Allies without drawing the US into the war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 protects ships to Iceland, no fur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iticism that none of the loaned goods were reaching their destinations because many were s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uboat attacks WWII"/>
          <p:cNvPicPr/>
          <p:nvPr/>
        </p:nvPicPr>
        <p:blipFill>
          <a:blip r:embed="rId1"/>
          <a:srcRect l="4286" t="4346" r="1427" b="2309"/>
          <a:stretch/>
        </p:blipFill>
        <p:spPr>
          <a:xfrm>
            <a:off x="3733920" y="0"/>
            <a:ext cx="5410080" cy="352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10910cs[1]"/>
          <p:cNvPicPr/>
          <p:nvPr/>
        </p:nvPicPr>
        <p:blipFill>
          <a:blip r:embed="rId2"/>
          <a:stretch/>
        </p:blipFill>
        <p:spPr>
          <a:xfrm>
            <a:off x="3733920" y="3565440"/>
            <a:ext cx="3962160" cy="329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489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ffff"/>
                </a:solidFill>
                <a:latin typeface="Arial"/>
              </a:rPr>
              <a:t>Curious Non-War War Measures</a:t>
            </a:r>
            <a:br>
              <a:rPr sz="3400"/>
            </a:br>
            <a:r>
              <a:rPr b="1" i="1" lang="en-US" sz="3400" spc="-1" strike="noStrike" u="sng">
                <a:solidFill>
                  <a:srgbClr val="ccffff"/>
                </a:solidFill>
                <a:uFillTx/>
                <a:latin typeface="Arial"/>
              </a:rPr>
              <a:t>PEACETIME WAR MEASURES</a:t>
            </a:r>
            <a:endParaRPr b="0" lang="en-US" sz="3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e Service Act (Sep 194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acetime draft? – wasn’t it peacetime st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id the US need this if it was isolated and neutr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lantic Charter (Aug 1941) - Churchill and FD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ed strategy for WW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a post-war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 US WASN’T EVEN IN THE WAR YE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ad up to Pearl Harb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rl Harbor was not the first attack on US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ay – 1937 – Japan bombs this 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pan pays quick reparations…nothing else happ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ben James is sunk– 1941 – US soldiers die escorting ships to Brit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paid no attention…Woodie Guthrie d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90747"/>
          <p:cNvPicPr/>
          <p:nvPr/>
        </p:nvPicPr>
        <p:blipFill>
          <a:blip r:embed="rId1"/>
          <a:stretch/>
        </p:blipFill>
        <p:spPr>
          <a:xfrm>
            <a:off x="3733920" y="1523880"/>
            <a:ext cx="51051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arl Harbor’s Hist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unted on US to provide necessary resources for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sponse to Japanese invasion of China, US freezes Japanese assets and stops trading oil, scrap metal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is not pl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attacks Pearl Har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some people say FDR knew a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ving information and using it wisely are very diffe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520" y="2742840"/>
            <a:ext cx="121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4" name="Picture 3" descr="ph312[1]"/>
          <p:cNvPicPr/>
          <p:nvPr/>
        </p:nvPicPr>
        <p:blipFill>
          <a:blip r:embed="rId1"/>
          <a:stretch/>
        </p:blipFill>
        <p:spPr>
          <a:xfrm>
            <a:off x="0" y="0"/>
            <a:ext cx="4114800" cy="338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Picture 4" descr="23-0128a[1]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43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6" name="Picture 5" descr="23-0130a[1]"/>
          <p:cNvPicPr/>
          <p:nvPr/>
        </p:nvPicPr>
        <p:blipFill>
          <a:blip r:embed="rId3"/>
          <a:stretch/>
        </p:blipFill>
        <p:spPr>
          <a:xfrm>
            <a:off x="0" y="3554280"/>
            <a:ext cx="4114800" cy="330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6" descr="20-1391a[1]"/>
          <p:cNvPicPr/>
          <p:nvPr/>
        </p:nvPicPr>
        <p:blipFill>
          <a:blip r:embed="rId4"/>
          <a:stretch/>
        </p:blipFill>
        <p:spPr>
          <a:xfrm>
            <a:off x="5029200" y="3578400"/>
            <a:ext cx="4114800" cy="3279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fdrwarspeech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Pearl Harbor sta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ore than 2,403 die – Ariz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9 ships sunk or dam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188 pl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Dec 8, 1941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ngress declares war on Japan unanimous in Senate and in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only one dissenting vote (Jeanette Rank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riggers US involvement in Europe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ok at your Economic Indicators Charts and Sta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lain the meaning of these 4 charts based on what you now k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752120"/>
            <a:ext cx="25146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at does this cartoon suggest about American policy towards Europe’s problems?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Picture 3" descr="10515cs[1]"/>
          <p:cNvPicPr/>
          <p:nvPr/>
        </p:nvPicPr>
        <p:blipFill>
          <a:blip r:embed="rId1"/>
          <a:stretch/>
        </p:blipFill>
        <p:spPr>
          <a:xfrm>
            <a:off x="2590920" y="304920"/>
            <a:ext cx="62481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4" name="Picture 4" descr="20407cs[1]"/>
          <p:cNvPicPr/>
          <p:nvPr/>
        </p:nvPicPr>
        <p:blipFill>
          <a:blip r:embed="rId1"/>
          <a:stretch/>
        </p:blipFill>
        <p:spPr>
          <a:xfrm>
            <a:off x="152280" y="1828800"/>
            <a:ext cx="4635720" cy="394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0512cs[1]"/>
          <p:cNvPicPr/>
          <p:nvPr/>
        </p:nvPicPr>
        <p:blipFill>
          <a:blip r:embed="rId2"/>
          <a:stretch/>
        </p:blipFill>
        <p:spPr>
          <a:xfrm>
            <a:off x="4876920" y="3354480"/>
            <a:ext cx="4038480" cy="350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20521cs[1]"/>
          <p:cNvPicPr/>
          <p:nvPr/>
        </p:nvPicPr>
        <p:blipFill>
          <a:blip r:embed="rId3"/>
          <a:stretch/>
        </p:blipFill>
        <p:spPr>
          <a:xfrm>
            <a:off x="5181480" y="0"/>
            <a:ext cx="3733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Picture 4" descr="20502cs[1]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34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20805cs[1]"/>
          <p:cNvPicPr/>
          <p:nvPr/>
        </p:nvPicPr>
        <p:blipFill>
          <a:blip r:embed="rId2"/>
          <a:stretch/>
        </p:blipFill>
        <p:spPr>
          <a:xfrm>
            <a:off x="0" y="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0818cs[1]"/>
          <p:cNvPicPr/>
          <p:nvPr/>
        </p:nvPicPr>
        <p:blipFill>
          <a:blip r:embed="rId3"/>
          <a:stretch/>
        </p:blipFill>
        <p:spPr>
          <a:xfrm>
            <a:off x="0" y="3522600"/>
            <a:ext cx="38862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2" name="Picture 4" descr="21218cs[1]"/>
          <p:cNvPicPr/>
          <p:nvPr/>
        </p:nvPicPr>
        <p:blipFill>
          <a:blip r:embed="rId1"/>
          <a:stretch/>
        </p:blipFill>
        <p:spPr>
          <a:xfrm>
            <a:off x="152280" y="838080"/>
            <a:ext cx="4092840" cy="5334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612cs[1]"/>
          <p:cNvPicPr/>
          <p:nvPr/>
        </p:nvPicPr>
        <p:blipFill>
          <a:blip r:embed="rId2"/>
          <a:stretch/>
        </p:blipFill>
        <p:spPr>
          <a:xfrm>
            <a:off x="5334120" y="0"/>
            <a:ext cx="3581280" cy="3016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430cs[1]"/>
          <p:cNvPicPr/>
          <p:nvPr/>
        </p:nvPicPr>
        <p:blipFill>
          <a:blip r:embed="rId3"/>
          <a:stretch/>
        </p:blipFill>
        <p:spPr>
          <a:xfrm>
            <a:off x="4572000" y="3116160"/>
            <a:ext cx="44067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Background Context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 Conclus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shington Naval Conferen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ellogg-Briand Pa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1928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 Neighbor Polic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1930-1934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rman, Italian, and Japanese allia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viet Union and Germany sign Non-Aggression P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10080" y="14475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TERM PE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 POWER – PULL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THR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PROBLEMS IN EUROPE AND ELSE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4952880" y="182880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3429000" y="2361960"/>
            <a:ext cx="2514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3352680"/>
            <a:ext cx="19051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410080" y="762120"/>
            <a:ext cx="0" cy="594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5029200" y="49528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5105520" y="5638680"/>
            <a:ext cx="3808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US Legislates </a:t>
            </a:r>
            <a:r>
              <a:rPr b="1" i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Neutral Isolationism</a:t>
            </a:r>
            <a:br>
              <a:rPr sz="4000"/>
            </a:br>
            <a:r>
              <a:rPr b="1" i="1" lang="en-US" sz="2000" spc="-1" strike="noStrike" u="sng">
                <a:solidFill>
                  <a:srgbClr val="ccffff"/>
                </a:solidFill>
                <a:uFillTx/>
                <a:latin typeface="Arial"/>
              </a:rPr>
              <a:t>See Gallup Polls from Greer -handout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TLER AND MUSSOLINI BECOME AGG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Civil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rms embargo, discretionary travel restr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ban on loans to bellige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made it more difficult for belligerents to export/import to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3124080" y="1295280"/>
            <a:ext cx="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Attempts to stop German Expansion</a:t>
            </a:r>
            <a:br>
              <a:rPr sz="3200"/>
            </a:br>
            <a:r>
              <a:rPr b="1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APPEASEMENT!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96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nich Conference Agreement (1938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, Britain, Italy, and Hitler allow Hitler to take Sudetenland (was it even their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is from Western Civ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if you give a mouse a cookie"/>
          <p:cNvPicPr/>
          <p:nvPr/>
        </p:nvPicPr>
        <p:blipFill>
          <a:blip r:embed="rId1"/>
          <a:stretch/>
        </p:blipFill>
        <p:spPr>
          <a:xfrm>
            <a:off x="4419720" y="4457880"/>
            <a:ext cx="2125440" cy="240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sudetenland acquisition"/>
          <p:cNvPicPr/>
          <p:nvPr/>
        </p:nvPicPr>
        <p:blipFill>
          <a:blip r:embed="rId2"/>
          <a:srcRect l="0" t="7462" r="40004" b="0"/>
          <a:stretch/>
        </p:blipFill>
        <p:spPr>
          <a:xfrm>
            <a:off x="4419720" y="0"/>
            <a:ext cx="4724280" cy="442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8" descr="sud"/>
          <p:cNvPicPr/>
          <p:nvPr/>
        </p:nvPicPr>
        <p:blipFill>
          <a:blip r:embed="rId3"/>
          <a:stretch/>
        </p:blipFill>
        <p:spPr>
          <a:xfrm>
            <a:off x="7391520" y="4495680"/>
            <a:ext cx="1752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hat is this cartoon saying about the Munich Conference? 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Picture 3" descr="10909cs[1]"/>
          <p:cNvPicPr/>
          <p:nvPr/>
        </p:nvPicPr>
        <p:blipFill>
          <a:blip r:embed="rId1"/>
          <a:stretch/>
        </p:blipFill>
        <p:spPr>
          <a:xfrm>
            <a:off x="1905120" y="990720"/>
            <a:ext cx="5715000" cy="562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Rectangle 3"/>
          <p:cNvSpPr/>
          <p:nvPr/>
        </p:nvSpPr>
        <p:spPr>
          <a:xfrm>
            <a:off x="0" y="56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s://www.washingtonpost.com/news/worldviews/wp/2015/11/17/what-americans-thought-of-jewish-refugees-on-the-eve-of-world-war-ii/?utm_term=.59d65c2fc2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ffering Viewpoi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 Lindbergh was part of the “America First Movemen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is cartoon say about this mov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10428cs[1]"/>
          <p:cNvPicPr/>
          <p:nvPr/>
        </p:nvPicPr>
        <p:blipFill>
          <a:blip r:embed="rId1"/>
          <a:stretch/>
        </p:blipFill>
        <p:spPr>
          <a:xfrm>
            <a:off x="2971800" y="1066680"/>
            <a:ext cx="5479920" cy="5562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286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s://www.youtube.com/watch?v=dKEisxsn4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ffering Viewpoints Con’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1" name="Picture 3" descr="10716cs[1]"/>
          <p:cNvPicPr/>
          <p:nvPr/>
        </p:nvPicPr>
        <p:blipFill>
          <a:blip r:embed="rId1"/>
          <a:srcRect l="4223" t="0" r="2820" b="0"/>
          <a:stretch/>
        </p:blipFill>
        <p:spPr>
          <a:xfrm>
            <a:off x="0" y="1066680"/>
            <a:ext cx="4533840" cy="579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10708cs[1]"/>
          <p:cNvPicPr/>
          <p:nvPr/>
        </p:nvPicPr>
        <p:blipFill>
          <a:blip r:embed="rId2"/>
          <a:stretch/>
        </p:blipFill>
        <p:spPr>
          <a:xfrm>
            <a:off x="4772160" y="685800"/>
            <a:ext cx="43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ccffff"/>
                </a:solidFill>
                <a:uFillTx/>
                <a:latin typeface="Arial"/>
              </a:rPr>
              <a:t>Non-Neutral Isolationism</a:t>
            </a:r>
            <a:br>
              <a:rPr sz="4200"/>
            </a:b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*technically still called a “neutrality act”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/1/39- WW2 officially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ality Act of 1939- US response to invasion of Po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“Cash and Car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uropean Democrac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uld pay cash for war goods and transport them on their own 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stein’s Letter- Beginnings of the Manhattan Proj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is act effective in keeping the US out of “entangling alliances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6:09:17Z</dcterms:created>
  <dc:creator>Darien Public Schools</dc:creator>
  <dc:description/>
  <dc:language>en-US</dc:language>
  <cp:lastModifiedBy>Balazs, Stephen</cp:lastModifiedBy>
  <cp:lastPrinted>2017-05-05T14:48:05Z</cp:lastPrinted>
  <dcterms:modified xsi:type="dcterms:W3CDTF">2017-05-05T15:31:50Z</dcterms:modified>
  <cp:revision>18</cp:revision>
  <dc:subject/>
  <dc:title>Response to Increasing Threat of WWII</dc:title>
</cp:coreProperties>
</file>